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3A7-0D07-4FA1-8063-3D6A8171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A66-660A-48D8-975E-66A0596D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06D-9484-4DBC-BEA5-E9887FEF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82F-E236-4E64-A67B-DBE873BD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DFD-E112-4432-9DCB-F08BCF62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73B-10B0-41E0-8BFE-5D5AE308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DB6-8F4B-44C3-880F-AF7559C2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FEF-3B6C-4C3F-848F-8403FE85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C58-F776-424E-8F2E-57D92CD7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1FD-AF02-44F9-8930-BFF8C67F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597-5E4B-4754-BAED-E7006BC3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277-CE1A-4368-B1E7-B50975D0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85E7-EBF5-470C-89FC-ABF7BE24B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images/view;_ylt=A0PDoS35impP1D4ACa.JzbkF;_ylu=X3oDMTBlMTQ4cGxyBHNlYwNzcgRzbGsDaW1n?back=http%3A%2F%2Fimages.search.yahoo.com%2Fsearch%2Fimages%3Fp%3Dfree%2Bclip%2Bart%2Bof%2Bplanets%26_adv_prop%3Dimage%26va%3Dfree%2Bclip%2Bart%2Bof%2Bplanets%26fr%3Dyfp-t-701%26tab%3Dorganic%26ri%3D67&amp;w=450&amp;h=319&amp;imgurl=images.clipartof.com%2Fsmall%2F1050797-Royalty-Free-RF-Clip-Art-Illustration-Of-A-Coloring-Page-Of-Aliens-Rockets-And-Flying-Saucers.jpg&amp;rurl=http%3A%2F%2Fwww.clipartof.com%2Fportfolio%2Fvisekart%2Fillustration%2Fforeign-planet-landscape-background-1050762.html&amp;size=58.8+KB&amp;name=Royalty-Free+%28RF%29+Clip+Art+Illustration+of+a+Foreign+Planet+Landscape+...&amp;p=free+clip+art+of+planets&amp;oid=ce8d7fcb28d91c0801dfe2b25d65caa0&amp;fr2=&amp;fr=yfp-t-701&amp;tt=Royalty-Free%2B%2528RF%2529%2BClip%2BArt%2BIllustration%2Bof%2Ba%2BForeign%2BPlanet%2BLandscape%2B...&amp;b=61&amp;ni=72&amp;no=67&amp;tab=organic&amp;ts=&amp;sigr=1391fq1ve&amp;sigb=14ip3hus9&amp;sigi=144d7168j&amp;.crumb=x1G1orjwcr6" TargetMode="External"/><Relationship Id="rId2" Type="http://schemas.openxmlformats.org/officeDocument/2006/relationships/hyperlink" Target="http://images.search.yahoo.com/images/view;_ylt=A0PDoS35impP1D4ACa.JzbkF;_ylu=X3oDMTBlMTQ4cGxyBHNlYwNzcgRzbGsDaW1n?back=http%3A%2F%2Fimages.search.yahoo.com%2Fsearch%2Fimages%3Fp%3Dfree%2Bclip%2Bart%2Bof%2Bplanets%26_adv_prop%3Dimage%26va%3Dfree%2Bclip%2Bart%2Bof%2Bplanets%26fr%3Dyfp-t-701%26tab%3Dorganic%26ri%3D67&amp;w=450&amp;h=319&amp;imgurl=images.clipartof.com%2Fsmall%2F1050797-Royalty-Free-RF-Clip-Art-Illustration-Of-A-Coloring-Page-Of-Aliens-Rockets-And-Flying-Saucers.jpg&amp;rurl=http%3A%2F%2Fwww.clipartof.com%2Fportfolio%2Fvisekart%2Fillustration%2Fforeign-planet-landscape-background-1050762.html&amp;size=58.8+KB&amp;name=Royalty-Free+%28RF%29+Clip+Art+Illustration+of+a+Foreign+Planet+Landscape+...&amp;p=free+clip+art+of+planets&amp;oid=ce8d7fcb28d91c0801dfe2b25d65caa0&amp;fr2=&amp;fr=yfp-t-701&amp;tt=Royalty-Free%2B%2528RF%2529%2BClip%2BArt%2BIllustration%2Bof%2Ba%2BForeign%2BPlanet%2BLandscape%2B...&amp;b=61&amp;ni=72&amp;no=67&amp;tab=organic&amp;ts=&amp;sigr=1391fq1ve&amp;sigb=14ip3hus9&amp;sigi=144d7168j&amp;.crumb=x1G1orjwcr6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images/view;_ylt=A0PDoYAvjGpPdWEAGSOJzbkF;_ylu=X3oDMTBlMTQ4cGxyBHNlYwNzcgRzbGsDaW1n?back=http%3A%2F%2Fimages.search.yahoo.com%2Fsearch%2Fimages%3Fp%3Dfree%2Bclip%2Bart%2Bof%2Bmercury%26n%3D30%26ei%3Dutf-8%26fr%3Dyfp-t-701%26tab%3Dorganic%26ri%3D0&amp;w=298&amp;h=291&amp;imgurl=www.clker.com%2Fcliparts%2FV%2FQ%2Fz%2Fk%2FZ%2FP%2Fmercury-md.png&amp;rurl=http%3A%2F%2Fwww.clker.com%2Fclipart-mercury.html&amp;size=76.9+KB&amp;name=Mercury+clip+art+-+vector+clip+art+online%2C+royalty+free+%26amp%3B+public+...&amp;p=free+clip+art+of+mercury&amp;oid=4c060dddba6fff8543e308019ddeb443&amp;fr2=&amp;fr=yfp-t-701&amp;tt=Mercury%2Bclip%2Bart%2B-%2Bvector%2Bclip%2Bart%2Bonline%252C%2Broyalty%2Bfree%2B%2526amp%253B%2Bpublic%2B...&amp;b=0&amp;ni=72&amp;no=0&amp;tab=organic&amp;ts=&amp;sigr=119cdb5hi&amp;sigb=13jg9a5h6&amp;sigi=11h42l224&amp;.crumb=x1G1orjwcr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search.yahoo.com/images/view;_ylt=A0PDoS7zjGpP7m0A24aJzbkF;_ylu=X3oDMTBlMTQ4cGxyBHNlYwNzcgRzbGsDaW1n?back=http%3A%2F%2Fimages.search.yahoo.com%2Fsearch%2Fimages%3Fp%3Dfree%2Bclip%2Bart%2Bof%2Bvenus%26n%3D30%26ei%3Dutf-8%26fr%3Dyfp-t-701%26tab%3Dorganic%26ri%3D2&amp;w=600&amp;h=598&amp;imgurl=www.wpclipart.com%2Fspace%2Fsolar_system%2FVenus%2FVenus_01.png&amp;rurl=http%3A%2F%2Fwww.wpclipart.com%2Fspace%2Fsolar_system%2FVenus%2FVenus_01.png.html&amp;size=208+KB&amp;name=VENUS+01+-+public+domain+clip+art+image&amp;p=free+clip+art+of+venus&amp;oid=94c171f1e8a013e87dd52acd1258a52f&amp;fr2=&amp;fr=yfp-t-701&amp;rw=free+clipart+of+venus&amp;tt=VENUS%2B01%2B-%2Bpublic%2Bdomain%2Bclip%2Bart%2Bimage&amp;b=0&amp;ni=72&amp;no=2&amp;tab=organic&amp;ts=&amp;sigr=1233osneo&amp;sigb=13hju4a8f&amp;sigi=11nuj3ers&amp;.crumb=x1G1orjwcr6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search.yahoo.com/images/view;_ylt=A0PDoS5ijWpPEgIAEEmJzbkF;_ylu=X3oDMTBlMTQ4cGxyBHNlYwNzcgRzbGsDaW1n?back=http%3A%2F%2Fimages.search.yahoo.com%2Fsearch%2Fimages%3Fp%3Dfree%2Bclip%2Bart%2Bof%2Bearth%26n%3D30%26ei%3Dutf-8%26fr%3Dyfp-t-701%26tab%3Dorganic%26ri%3D31&amp;w=425&amp;h=425&amp;imgurl=images.all-free-download.com%2Fimages%2Fgraphiclarge%2Fplanet_earth_clip_art_22838.jpg&amp;rurl=http%3A%2F%2Fall-free-download.com%2Ffree-vector%2Fvector-clip-art%2Fplanet_earth_clip_art_22838.html&amp;size=71.7+KB&amp;name=Planet+Earth+clip+art+Vector+clip+art+-+Free+vector+for+free+download&amp;p=free+clip+art+of+earth&amp;oid=05b1179ca4b6bb412c338fec16f33093&amp;fr2=&amp;fr=yfp-t-701&amp;tt=Planet%2BEarth%2Bclip%2Bart%2BVector%2Bclip%2Bart%2B-%2BFree%2Bvector%2Bfor%2Bfree%2Bdownload&amp;b=31&amp;ni=72&amp;no=31&amp;tab=organic&amp;ts=&amp;sigr=12pi2j114&amp;sigb=13il986vj&amp;sigi=12gup0r9o&amp;.crumb=x1G1orjwcr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search.yahoo.com/images/view;_ylt=A0PDoX89jmpPX2IAso2JzbkF;_ylu=X3oDMTBlMTQ4cGxyBHNlYwNzcgRzbGsDaW1n?back=http%3A%2F%2Fimages.search.yahoo.com%2Fsearch%2Fimages%3Fp%3Dfree%2Bclip%2Bart%2Bof%2Bmars%26n%3D30%26ei%3Dutf-8%26fr%3Dyfp-t-701%26tab%3Dorganic%26ri%3D2&amp;w=722&amp;h=734&amp;imgurl=www.arthursclipart.org%2Fspace%2Fspace%2Fmars.gif&amp;rurl=http%3A%2F%2Fwww.arthursclipart.org%2Fspace%2Fspace%2Fpage_01.htm&amp;size=36+KB&amp;name=Arthur%26%2339%3Bs+Free+Space+Clipart+Page+1&amp;p=free+clip+art+of+mars&amp;oid=d8a765c171b09699fe4a60f38377ed67&amp;fr2=&amp;fr=yfp-t-701&amp;rw=free+clipart+of+mars&amp;tt=Arthur%2526%252339%253Bs%2BFree%2BSpace%2BClipart%2BPage%2B1&amp;b=0&amp;ni=72&amp;no=2&amp;tab=organic&amp;ts=&amp;sigr=11lcoo611&amp;sigb=13gd8cdv4&amp;sigi=11brrlmnf&amp;.crumb=x1G1orjwcr6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hyperlink" Target="http://images.search.yahoo.com/images/view;_ylt=A0PDoX9HkGpPIncAbByJzbkF;_ylu=X3oDMTBlMTQ4cGxyBHNlYwNzcgRzbGsDaW1n?back=http%3A%2F%2Fimages.search.yahoo.com%2Fsearch%2Fimages%3Fp%3Dfree%2Bclip%2Bart%2Bof%2Bsaturn%26n%3D30%26ei%3Dutf-8%26y%3DSearch%2BImages%26tab%3Dorganic%26ri%3D57&amp;w=150&amp;h=108&amp;imgurl=www.clipartreview.com%2F_gallery%2F_TN%2Fr_255.gif&amp;rurl=http%3A%2F%2Fwww.clipartreview.com%2F_gallery%2F_search_term_pages%2Fplanet_saturn.html&amp;size=7.2+KB&amp;name=of+saturn+free+small+sized+planet+clip+art+image+of+saturn+saturn+...&amp;p=free+clip+art+of+saturn&amp;oid=156b03bf16059adb458d6ff8a2fe0c59&amp;fr2=&amp;fr=&amp;tt=of%2Bsaturn%2Bfree%2Bsmall%2Bsized%2Bplanet%2Bclip%2Bart%2Bimage%2Bof%2Bsaturn%2Bsaturn%2B...&amp;b=31&amp;ni=72&amp;no=57&amp;tab=organic&amp;ts=&amp;sigr=12bhcfda2&amp;sigb=13mtig0eg&amp;sigi=11c84jv36&amp;.crumb=x1G1orjwcr6" TargetMode="External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la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thumbnai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3048120"/>
            <a:ext cx="3394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1460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humbnai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971800"/>
            <a:ext cx="838080" cy="81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36232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2680" y="3809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208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8604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humbnail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2971800"/>
            <a:ext cx="762120" cy="75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7440" y="22860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7080" y="3809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9404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humbnail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14600" y="2971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62680" y="2286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9000" y="37339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0512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humbnail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29000" y="3048120"/>
            <a:ext cx="739800" cy="83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4300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3040" y="3886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8954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humbnail" descr=""/>
          <p:cNvPicPr/>
          <p:nvPr/>
        </p:nvPicPr>
        <p:blipFill>
          <a:blip r:embed="rId9"/>
          <a:stretch/>
        </p:blipFill>
        <p:spPr>
          <a:xfrm>
            <a:off x="4419720" y="2895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67080" y="2286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3080" y="38098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228600" y="289548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thumbnail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486400" y="3048120"/>
            <a:ext cx="1371600" cy="987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639400" y="2362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7480" y="3886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685800" y="3124080"/>
            <a:ext cx="9144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2840" tIns="0" bIns="4284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humbnail" descr=""/>
          <p:cNvPicPr/>
          <p:nvPr/>
        </p:nvPicPr>
        <p:blipFill>
          <a:blip r:embed="rId12"/>
          <a:stretch/>
        </p:blipFill>
        <p:spPr>
          <a:xfrm>
            <a:off x="7010280" y="3124080"/>
            <a:ext cx="762120" cy="752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9800" y="23623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41400" y="396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52280" y="2438280"/>
            <a:ext cx="9144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humbnail" descr=""/>
          <p:cNvPicPr/>
          <p:nvPr/>
        </p:nvPicPr>
        <p:blipFill>
          <a:blip r:embed="rId13"/>
          <a:stretch/>
        </p:blipFill>
        <p:spPr>
          <a:xfrm>
            <a:off x="7848720" y="2971800"/>
            <a:ext cx="1295280" cy="914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929000" y="23623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86600" y="3774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02:15:00Z</dcterms:created>
  <dc:creator>Dekalb County School</dc:creator>
  <dc:description/>
  <dc:language>en-US</dc:language>
  <cp:lastModifiedBy>Dekalb County School</cp:lastModifiedBy>
  <dcterms:modified xsi:type="dcterms:W3CDTF">2012-03-26T21:26:04Z</dcterms:modified>
  <cp:revision>8</cp:revision>
  <dc:subject/>
  <dc:title>The Planets</dc:title>
</cp:coreProperties>
</file>